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982DC5-9AF5-40F1-A7F6-FD536AEC4E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3D721C-AAC7-4A78-A8EF-C90C084884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2B1C9B-2503-4D6D-9296-5040A34220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AC6BB6-90EA-4189-9528-B10F7AC0EF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7B6ADB-EAD3-4150-9F20-55186DF660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0601D1-50ED-463A-AA5D-64219AB040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F01941-22E1-498E-88BD-00BDB32022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D7A252-BF7B-497C-A6CB-622EE4BBCB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9BBC5C-CB59-48B1-B139-EDFB829E50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E11F83-A0F2-4C21-88A1-42FBEAE3AD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8E672E-9CBD-457C-8313-9447CF22F9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A0BE4B-8092-4B5B-A575-FF6451A97F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51FC6E-EF79-4646-AD27-A3161ABA0AA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view</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8 October 2008</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cient Conceptions of Politics</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role does justice play in Cleon and Diodotus' speeches on the Mytilenian debate? What role does justice play in Thucydides’ view of international relat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cribe the Melian debate. Does Thucydides sympathize with the Melian, the Athenian, or neither posi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cient Conceptions of Politics</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does Aristotle mean by saying that the state is natural?  What is the difference between this view of the state and the view that the state is a kind of social contrac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a natural slave? Does Aristotle think that natural slaves exis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oes Aristotle condemn or defend democracy? What role can “the many” play in political decisio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ust War</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necessary for a war to be just? Would those conditions be found in a contemporary case, e.g., Iraq?</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Erasmus’ challenge to just war theory? Does Erasmus deny that there can be just war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are the key just causes of war in the conquest of the Americas, for Vitoria? Does Vitoria believe the Spanish are justified in waging war against the natives of the America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 Conceptions of Politics</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constitutes a free regime, according to Machiavelli? Why are such regimes desirable for Machiavelli? Is Machiavelli’s advocacy of free regimes consistent with his advice to princ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are some of Machiavelli’s recommendations to the aspiring prince? Are these recommendations consistent with good governmen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uld a dictator like Hitler or Stalin earn Machiavelli's praise? Why or why no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State of Nature</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is the state of nature a state of war in Hobbes? Why is morality impossible in i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s a sovereign authority the only possible solution to Hobbes’ state of nature? Given his assumptions about human nature, is his solution plausib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State of Nature</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are Rousseau's objections to Hobbes' description of the state of natu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are the roots of conflict and war, for Rousseau?</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mocracy and Intervention</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does Mill mean by saying that some people are "civilized" and others are not? What is the implication of this distinction for international relation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hy does Mill think that imperial government can sometimes help another country? Under what conditions is this claim true, for Mill? Critically evaluate his arguments for benevolent imperialis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erpetual Peace</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does Kant mean by a "federation" of states? Why is a "federation" of states, and not a world state, required for world peace? Why does Kant think a world state is undesirabl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y does Kant think that perpetual peace is possible even if men are not naturally good?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are Hegel's criticisms of Kant's proposal for a perpetual peace?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es Hegel believe that war is always negative? Or does he think that war can be positive? Why?</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are and contrast Hegel and Marx's view of history. Where does history lead, according to Hegel? Where does it lead according to Marx? What are the mechanisms of history?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07T17:41:43Z</dcterms:created>
  <dc:creator>Xavier Marquez</dc:creator>
  <dc:description/>
  <dc:language>en-US</dc:language>
  <cp:lastModifiedBy>Full Name</cp:lastModifiedBy>
  <dcterms:modified xsi:type="dcterms:W3CDTF">2008-10-07T20:51:32Z</dcterms:modified>
  <cp:revision>3</cp:revision>
  <dc:subject/>
  <dc:title>Review</dc:title>
</cp:coreProperties>
</file>